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4FB0-7FBC-41CC-98EE-A9F9817D18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020E-CC3C-4F55-95F1-EDD6FACDE3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435-5535-4B0D-AE5E-2E53AEAB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6F73-9331-4C5D-B6D0-36145E62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048-B9A9-4BDB-8851-AB765344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59F0-75D2-4B03-ABCF-E18F18CB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0FA9-02C1-42E2-8F49-83D469B2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E63A-FF0F-471E-A020-CC047082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669A-B9BD-42EF-BE7A-D7150900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F522-574C-4570-B6BC-F26C7F0F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8F4A-3E5E-4C4E-B7DD-629D1F2B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638F-EF70-47F9-9CE4-A7EEBCCB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32C9-C222-465C-8D2C-B32B29B6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F87-DCA3-41A2-BC25-C1F6D5B1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22FF-B4D8-4D33-BF34-6D18BAAA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F9C6-D073-414D-B575-D2E5695F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5433-3349-4063-92D6-6573ED70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808D-859B-4A46-BF1C-CE6B73E7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9680-05D0-4B90-9A9A-6228EA46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2D114-8FFC-4B20-ADED-1ACD9A03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48B82-9EEF-47A2-BEC1-E6B2912E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E276E-E85F-4F2C-80D9-A2CD987A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315BF-9835-48B6-AB7A-344BAA26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96FA9-AD8F-4150-A5E2-583E83FE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216-85C1-4F13-934C-B2AA898C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4B562-BB07-4F07-82F2-A08B76B1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DB906-7730-4BDA-BFA8-85840432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B4D23-266D-448C-99F0-267CA945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584A8-4950-42D0-9DEC-8AB6FB28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EEC65-D1D3-456C-ABCE-E0A0CFFC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F7798-1295-4E0F-82A6-71EB2127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08FCF-CF7C-4312-8FBE-40CF2A48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E370C-5F09-4754-8052-0EC7C43E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EF203-9AC3-4FEF-B57B-13D768F2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18DCA-9D83-491E-B570-26D37DFC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920-D1E2-46C4-B7CF-652B156E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317B1-2E8C-4029-9C3F-1C3C6424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25D1A-6924-4484-932A-AD218A58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FF488-1D10-4EB3-854E-E51FF01A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7E124-31A3-48AD-B1CC-77C73FD5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C540D-4923-4137-8BE4-862B3AC8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EEE42-4EE3-466C-98D4-552FCB41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A378D-F0CB-4274-97AB-8135FFC5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9F742-D72B-4715-B011-FD4FB18C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6A058-9E4B-406D-90B6-6AC0BFED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17E31-BA24-4F3A-A34E-0160A935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6EAE-A76D-4D0A-87CA-76DF8227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B463B-7F8E-4711-8AC2-B9CBBF7C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E33A6-B8BE-465A-8EB1-2832DE7E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7C00E-0269-48C6-A9D6-1C65DCEB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BED4A-7EDC-454C-869E-DDB2B4E4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20CA8-C1FA-4C78-BFBD-72719C3E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19D67-7BB5-4C31-845E-895765D5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0053B-5FF0-42DF-B3E4-1D0546F1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1BD78-EEB1-4A30-97ED-A817A4AF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AAD2E-EE0A-4C34-BB86-3DEE8A06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C65EB-3C27-4010-8508-BBC53599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093-C622-4391-AA03-F986B6AD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04AA8-E01E-4B52-9B49-FE638DBE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AEE72-259E-4D1B-8ABB-BA69A69F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FF162-AC14-4341-B23E-34345CDC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59919-CC45-4D7D-9605-02C87C2C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9496C-EE72-4CA1-AE8C-78DC92AE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1A5D6-11FD-4361-98FA-E56666C4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9D70C-20EC-42AC-82A1-431144C1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98BEC-5D2E-4E6A-907E-9CED2E61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08CCE-6FDD-48AB-A52A-D3A2E3E4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DEFAB-7675-447D-8E5D-D2680AF4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54ED-07E8-46D8-BAF4-B3E10C7E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B53BA-0160-4051-9979-E40BBF90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33DB3-D259-417E-901F-3EFF4AE2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FC2B0-5DB0-4837-B26D-30AAB440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B733D-CEFC-49BA-ABE8-956A84F3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0F703-22A6-47DD-AAC3-2FA5EC60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833E2-59B6-4BD3-AF7A-D0E58F2C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AD6E4-A232-4CCA-8531-576E451B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38F86-0B31-43F9-A6EB-82EFCCD1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A8D08-EC5E-4FF6-BA6B-A08E409E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EAB04-5103-41C2-B31F-9E707B6C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173-916A-4A7B-86E4-541AB162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DD85C-07F7-45EE-8AD9-A48253BC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9D685-C48E-4812-BDAD-796C15C6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6BACF-E570-43A3-9709-59FAFDD7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E6273-9C41-41BA-95BD-2DD44687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263E7-C0E8-4D49-AE33-35FF7AAC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07AA5-DF9A-4113-8461-07E03EBD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2047B-CE48-4801-A50F-94B5F56B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2D44F-6E8F-42CD-AE20-5B425874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FEA49-D6FE-46FF-B8D5-151AB80B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10626-AC45-4E14-A9EE-77ED067F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130-C9F3-4212-9705-203285D1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CEDE6-2F36-43A3-AAEE-F93B1457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64541-8182-4665-80EF-18D94B41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112B4-1CC5-42CD-A5F2-24E3B08E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BFFC3-9FF5-457B-89F0-D75668A2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3172F-2FE6-43F8-A895-4F18C87D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93313-ADAC-481E-A745-7852F189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E5665-9CD6-49C2-9E7B-ADC85519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CF74-CD80-4FED-AAE1-EDFD265C5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F899-69A0-4111-8E0B-6326A1CE4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08E6-5CA5-4171-B49D-6F28D97DE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FEE1-B3E1-4A1A-872B-2D52F1BA6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82F2-76CE-4DDB-BB11-C96284F4C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2CDD-4D3B-4D85-86D3-6FB83A234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E96E-ED3D-426A-97CD-A5BB3EFB6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6646-C276-449B-8BDF-0287CE9A1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-285840" y="1143000"/>
            <a:ext cx="10001520" cy="74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Constantia"/>
              </a:rPr>
              <a:t>СКАЗКА В МУЗЫКЕ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Прямоугольник 8"/>
          <p:cNvSpPr/>
          <p:nvPr/>
        </p:nvSpPr>
        <p:spPr>
          <a:xfrm>
            <a:off x="357120" y="500040"/>
            <a:ext cx="846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VIII методический конкурс компьюте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продуктов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заика презентац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9"/>
          <p:cNvSpPr/>
          <p:nvPr/>
        </p:nvSpPr>
        <p:spPr>
          <a:xfrm>
            <a:off x="5580000" y="4786200"/>
            <a:ext cx="324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ропаева Ольга Юрь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муз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ОУ СОШ №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Реж,2023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ТРАНА СКАЗОК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1" name="Picture 5" descr="D:\АРХИВ УРОКОВ\АРХИВ УРОКОВ 2019-2020\3 УРОК\3 класс\НОРВЕГИЯ\ea72e3400d6e.jpg"/>
          <p:cNvPicPr/>
          <p:nvPr/>
        </p:nvPicPr>
        <p:blipFill>
          <a:blip r:embed="rId1"/>
          <a:stretch/>
        </p:blipFill>
        <p:spPr>
          <a:xfrm>
            <a:off x="1500120" y="1143000"/>
            <a:ext cx="6114960" cy="452592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3"/>
          <p:cNvSpPr/>
          <p:nvPr/>
        </p:nvSpPr>
        <p:spPr>
          <a:xfrm>
            <a:off x="142920" y="5929200"/>
            <a:ext cx="93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с вами с помощью музыки совершим путешествие в красивую страну Норвегию. Она находится  у Северного мо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16"/>
          <p:cNvSpPr/>
          <p:nvPr/>
        </p:nvSpPr>
        <p:spPr>
          <a:xfrm>
            <a:off x="3523320" y="339840"/>
            <a:ext cx="32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ОРВЕГ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5" name="Picture 7" descr="D:\АРХИВ УРОКОВ\АРХИВ УРОКОВ 2019-2020\3 УРОК\3 класс\НОРВЕГИЯ\norwegian-landscape-003.jpg"/>
          <p:cNvPicPr/>
          <p:nvPr/>
        </p:nvPicPr>
        <p:blipFill>
          <a:blip r:embed="rId1"/>
          <a:stretch/>
        </p:blipFill>
        <p:spPr>
          <a:xfrm>
            <a:off x="357120" y="1785960"/>
            <a:ext cx="4143600" cy="3286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D:\АРХИВ УРОКОВ\АРХИВ УРОКОВ 2019-2020\3 УРОК\3 класс\НОРВЕГИЯ\3a0b4d307632.jpg"/>
          <p:cNvPicPr/>
          <p:nvPr/>
        </p:nvPicPr>
        <p:blipFill>
          <a:blip r:embed="rId2"/>
          <a:stretch/>
        </p:blipFill>
        <p:spPr>
          <a:xfrm>
            <a:off x="4648320" y="3143160"/>
            <a:ext cx="4209840" cy="314352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5"/>
          <p:cNvSpPr/>
          <p:nvPr/>
        </p:nvSpPr>
        <p:spPr>
          <a:xfrm>
            <a:off x="142920" y="5072040"/>
            <a:ext cx="500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й много морских  заливов, гор, скал,  снегов, озёр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вегия - родина гномов, троллей, эльфов. По легенде эти сказочные существа живут в горах и скалах, которых много в Норве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0"/>
          <p:cNvSpPr/>
          <p:nvPr/>
        </p:nvSpPr>
        <p:spPr>
          <a:xfrm>
            <a:off x="6335640" y="27604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4"/>
          <p:cNvSpPr/>
          <p:nvPr/>
        </p:nvSpPr>
        <p:spPr>
          <a:xfrm>
            <a:off x="3177000" y="37274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ДВАРД ГРИ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1" name="Picture 6" descr="D:\АРХИВ УРОКОВ\АРХИВ УРОКОВ 2019-2020\3 УРОК\3 класс\НОРВЕГИЯ\Без названия.jpg"/>
          <p:cNvPicPr/>
          <p:nvPr/>
        </p:nvPicPr>
        <p:blipFill>
          <a:blip r:embed="rId1"/>
          <a:stretch/>
        </p:blipFill>
        <p:spPr>
          <a:xfrm>
            <a:off x="214200" y="1214280"/>
            <a:ext cx="2828880" cy="3571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3000240" y="1213920"/>
            <a:ext cx="614376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двард Хагеруп Григ родился 15 июня 1843 года в культурной и обеспеченной семье.  Мать композитора, у себя дома в Бергене постоянно музицировала, исполняя сочинения Моцарта, и, как было принято в состоятельных семьях, с детства обучала музыке Эдварда, его брата и трёх сестёр. Впервые будущий композитор сел за фортепиано в четыре г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ТР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4" name="Picture 2" descr="D:\АРХИВ УРОКОВ\АРХИВ УРОКОВ 2019-2020\3 УРОК\3 класс\НОРВЕГИЯ\1620992316_7-pibig_info-p-rassvet-priroda-krasivo-foto-7.jpg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3"/>
          <p:cNvSpPr/>
          <p:nvPr/>
        </p:nvSpPr>
        <p:spPr>
          <a:xfrm>
            <a:off x="785880" y="621504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вает сюиту музыкальная картина «Утро» 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ПЕЩЕРЕ ГОРНОГО КОРО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7" name="Picture 5" descr="D:\АРХИВ УРОКОВ\АРХИВ УРОКОВ 2019-2020\3 УРОК\3 класс\ГНОМ.jpg"/>
          <p:cNvPicPr/>
          <p:nvPr/>
        </p:nvPicPr>
        <p:blipFill>
          <a:blip r:embed="rId1"/>
          <a:stretch/>
        </p:blipFill>
        <p:spPr>
          <a:xfrm>
            <a:off x="725400" y="1600200"/>
            <a:ext cx="3502080" cy="4525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D:\АРХИВ УРОКОВ\АРХИВ УРОКОВ 2019-2020\3 УРОК\3 класс\ГНОМЫ.jpg"/>
          <p:cNvPicPr/>
          <p:nvPr/>
        </p:nvPicPr>
        <p:blipFill>
          <a:blip r:embed="rId2"/>
          <a:stretch/>
        </p:blipFill>
        <p:spPr>
          <a:xfrm>
            <a:off x="4648320" y="2346480"/>
            <a:ext cx="4038480" cy="303372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10"/>
          <p:cNvSpPr/>
          <p:nvPr/>
        </p:nvSpPr>
        <p:spPr>
          <a:xfrm>
            <a:off x="9360" y="-3262680"/>
            <a:ext cx="177660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СНЯ СОЛЬВЕЙ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1" name="Picture 4" descr="D:\АРХИВ УРОКОВ\АРХИВ УРОКОВ 2019-2020\3 УРОК\3 класс\НОРВЕГИЯ\images.jpg"/>
          <p:cNvPicPr/>
          <p:nvPr/>
        </p:nvPicPr>
        <p:blipFill>
          <a:blip r:embed="rId1"/>
          <a:stretch/>
        </p:blipFill>
        <p:spPr>
          <a:xfrm>
            <a:off x="214200" y="4857840"/>
            <a:ext cx="3143520" cy="16304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D:\АРХИВ УРОКОВ\АРХИВ УРОКОВ 2019-2020\3 УРОК\3 класс\НОРВЕГИЯ\images (1).jpg"/>
          <p:cNvPicPr/>
          <p:nvPr/>
        </p:nvPicPr>
        <p:blipFill>
          <a:blip r:embed="rId2"/>
          <a:stretch/>
        </p:blipFill>
        <p:spPr>
          <a:xfrm>
            <a:off x="5143680" y="2500200"/>
            <a:ext cx="295272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АНЕЦ АНИТ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Picture 2" descr="D:\АРХИВ УРОКОВ\АРХИВ УРОКОВ 2019-2020\3 УРОК\3 класс\НОРВЕГИЯ\images.png"/>
          <p:cNvPicPr/>
          <p:nvPr/>
        </p:nvPicPr>
        <p:blipFill>
          <a:blip r:embed="rId1"/>
          <a:stretch/>
        </p:blipFill>
        <p:spPr>
          <a:xfrm>
            <a:off x="6072120" y="3214800"/>
            <a:ext cx="3071880" cy="3209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D:\АРХИВ УРОКОВ\АРХИВ УРОКОВ 2019-2020\3 УРОК\3 класс\НОРВЕГИЯ\904.jpg"/>
          <p:cNvPicPr/>
          <p:nvPr/>
        </p:nvPicPr>
        <p:blipFill>
          <a:blip r:embed="rId2"/>
          <a:stretch/>
        </p:blipFill>
        <p:spPr>
          <a:xfrm>
            <a:off x="428760" y="3143160"/>
            <a:ext cx="409572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7" name="Picture 2" descr="D:\АРХИВ УРОКОВ\АРХИВ УРОКОВ 2019-2020\3 УРОК\3 класс\НОРВЕГИЯ\images (3).jpg"/>
          <p:cNvPicPr/>
          <p:nvPr/>
        </p:nvPicPr>
        <p:blipFill>
          <a:blip r:embed="rId1"/>
          <a:stretch/>
        </p:blipFill>
        <p:spPr>
          <a:xfrm>
            <a:off x="5572080" y="4786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D:\АРХИВ УРОКОВ\АРХИВ УРОКОВ 2019-2020\3 УРОК\3 класс\НОРВЕГИЯ\Без названия (2).jpg"/>
          <p:cNvPicPr/>
          <p:nvPr/>
        </p:nvPicPr>
        <p:blipFill>
          <a:blip r:embed="rId2"/>
          <a:stretch/>
        </p:blipFill>
        <p:spPr>
          <a:xfrm>
            <a:off x="3500280" y="200016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D:\АРХИВ УРОКОВ\АРХИВ УРОКОВ 2019-2020\3 УРОК\3 класс\НОРВЕГИЯ\Без названия (1).jpg"/>
          <p:cNvPicPr/>
          <p:nvPr/>
        </p:nvPicPr>
        <p:blipFill>
          <a:blip r:embed="rId3"/>
          <a:stretch/>
        </p:blipFill>
        <p:spPr>
          <a:xfrm>
            <a:off x="571680" y="207180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D:\АРХИВ УРОКОВ\АРХИВ УРОКОВ 2019-2020\3 УРОК\3 класс\НОРВЕГИЯ\images (2).jpg"/>
          <p:cNvPicPr/>
          <p:nvPr/>
        </p:nvPicPr>
        <p:blipFill>
          <a:blip r:embed="rId4"/>
          <a:stretch/>
        </p:blipFill>
        <p:spPr>
          <a:xfrm>
            <a:off x="785880" y="4857840"/>
            <a:ext cx="3638520" cy="1685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D:\АРХИВ УРОКОВ\АРХИВ УРОКОВ 2019-2020\3 УРОК\3 класс\НОРВЕГИЯ\images (4).jpg"/>
          <p:cNvPicPr/>
          <p:nvPr/>
        </p:nvPicPr>
        <p:blipFill>
          <a:blip r:embed="rId5"/>
          <a:stretch/>
        </p:blipFill>
        <p:spPr>
          <a:xfrm>
            <a:off x="6357960" y="2214720"/>
            <a:ext cx="2467080" cy="185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10:28:32Z</dcterms:created>
  <dc:creator>Татьяна</dc:creator>
  <dc:description/>
  <dc:language>en-US</dc:language>
  <cp:lastModifiedBy>User</cp:lastModifiedBy>
  <dcterms:modified xsi:type="dcterms:W3CDTF">2023-03-28T10:33:18Z</dcterms:modified>
  <cp:revision>108</cp:revision>
  <dc:subject/>
  <dc:title>Тема урока:</dc:title>
</cp:coreProperties>
</file>